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028-E10C-4CA2-8F24-C9A6756F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DBF-AC80-4C92-B5DC-3E358156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A84-F747-49D3-9E0C-F6FD781D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95D-E932-4F68-87E9-920EAAC7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2B4-CEB6-4FDD-B129-F9F59998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CBC-44B1-4617-8DA9-890BC4F4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02F-FD3A-4A8D-B185-03FE8E6B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A4D-0DC5-4BA1-9D5D-E46F303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F6D-8D65-4591-9D3B-6C55BE19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874-358A-4EA3-BE49-81101116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B2A-4852-4067-A49C-AD17215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886-FD48-449F-99DD-F6B0BDD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F3F-01A4-47B5-8F40-8577B6CDA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sermons4kid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57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7621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buon Samarit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286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presentazione grafica di Henry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3657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tto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572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mons4Kid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8915400" cy="668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38680" y="1600200"/>
            <a:ext cx="32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uomo scendeva da Gerusalemme a Gerico e incappò nei brig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1905120"/>
            <a:ext cx="28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lo spogliarono, lo percossero e poi se ne andarono, lasciandolo mezzo m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380880"/>
            <a:ext cx="2438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aso, un sacerdote scendeva per quella medesima strada e quando lo vi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1148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ssò oltre dall’altra p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762120"/>
            <a:ext cx="220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che un levita, giunto in quel luogo, lo 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4235400"/>
            <a:ext cx="23623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passò olt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609480"/>
            <a:ext cx="266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vece un Samaritano, che era in viaggio, passandogli accanto lo vid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5053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 n’ebbe compass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5105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si fece vicino, gli fasciò le ferite, versandovi olio e vino; poi, caricatolo sopra il suo giumento, lo portò a una locanda e si prese cura di lu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 di questi tre ti sembra sia stato il prossimo di colui che è incappato nei brigant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23623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 ha avuto compassione di l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ù gli disse: “Va’ e anche tu fa’ lo stess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191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ca 10,30-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3565440" cy="1108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2349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© 2003 Henry Martin and Sermons4Kid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33577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permesso l’uso pasto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publication or pro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55627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ermons4kid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4581360"/>
            <a:ext cx="64090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aduzione dall’inglese a cura di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.qumran2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4:25:22Z</dcterms:created>
  <dc:creator>Clyde CISD</dc:creator>
  <dc:description/>
  <dc:language>en-US</dc:language>
  <cp:lastModifiedBy>Steo@Stefi</cp:lastModifiedBy>
  <dcterms:modified xsi:type="dcterms:W3CDTF">2007-12-02T14:23:09Z</dcterms:modified>
  <cp:revision>8</cp:revision>
  <dc:subject/>
  <dc:title>PowerPoint Presentation</dc:title>
</cp:coreProperties>
</file>